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E74-14EE-4479-9C27-8BFAF8E1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D32-D1B2-492E-B63C-B04ADAB5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C058-A87B-491A-A398-626C6975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EF5-BD02-46B8-84B3-945C2CC8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B288-A569-466B-8DA4-7FA90A88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62C-B75E-48E7-B8D1-5947E69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E4A-3045-43E4-9FB0-00B6BD02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5D0-E1C9-4046-8434-D7F03687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02B-2215-43E4-8247-011C34C4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8CDC-5B04-48D0-BB51-99986346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26C4-C77F-4116-AA12-5F559C50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40B-F57F-4D50-9CD1-FE6BBC5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A9B9-F132-45E0-A982-E7729DD66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85600">
            <a:off x="3976200" y="2701800"/>
            <a:ext cx="11908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new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18:23:51Z</dcterms:created>
  <dc:creator>HISD</dc:creator>
  <dc:description/>
  <dc:language>en-US</dc:language>
  <cp:lastModifiedBy>HISD</cp:lastModifiedBy>
  <dcterms:modified xsi:type="dcterms:W3CDTF">2012-04-24T18:26:26Z</dcterms:modified>
  <cp:revision>1</cp:revision>
  <dc:subject/>
  <dc:title>Slide 1</dc:title>
</cp:coreProperties>
</file>